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4857F-9048-4739-B193-61648F91F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B6E9C-F959-4317-954F-0522E13B68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FA73D-3B8D-40FB-94EB-B78A5EFC41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8D386-E226-4D3F-ACDE-45F6940724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845C74-A8A2-4DDB-A961-1432F6C121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A2A39-0577-4696-9B02-5BD823E913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055F4-88EA-4CE7-BEC5-E65B8F4A2B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D3A7F-7386-4F69-8AA5-DB4343EFB9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7FD29-76A0-43E3-8161-CA1E8FDF37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D4ECBA-587D-4963-A25A-23D10C6C73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1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A5CE2-E5F6-48F6-8F5B-8C1BA41DA0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buClr>
                <a:srgbClr val="f9a12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100" spc="-1" strike="noStrike">
                <a:solidFill>
                  <a:srgbClr val="f9a12a"/>
                </a:solidFill>
                <a:latin typeface="Trebuchet MS"/>
              </a:rPr>
              <a:t>Čet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E08E2-198D-4248-973D-C3454A7091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1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A3EF9-9BD9-4F3F-9F6D-2BC8D3D07B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1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6B446-6145-4B77-8156-A1465000D8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6A09B-A866-4634-8EF9-F41920330B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272-5BAF-4F25-84B7-8EE3A29F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8763-37B5-40B4-9E45-F31B3BE0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A565-A2F4-4DD1-91A1-1C53AE26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096-6E6E-4786-A265-18D60C1D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C74-B0B0-4DE2-B96F-5822B30A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10BC-CEB2-49C4-9E72-C9A07817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58E-6F69-4D52-B51F-C8A33D17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3A52-B8A8-4E05-A079-EF21EAAF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153-172F-4CDA-94DF-C7022028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2C33-C111-4678-8605-CCE5116F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2BCC-33FB-405C-AA59-CB57B4B5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B6C-D4E8-444D-8999-22FA40B1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5C403-2DEE-4953-9E6C-41635AE79D4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3133800"/>
            <a:ext cx="9713880" cy="19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800" spc="-1" strike="noStrike">
                <a:solidFill>
                  <a:srgbClr val="ffffff"/>
                </a:solidFill>
                <a:latin typeface="Trebuchet MS"/>
              </a:rPr>
              <a:t>ORALNA HIGIJENA </a:t>
            </a: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3964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83720" y="2957400"/>
            <a:ext cx="609840" cy="2324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00120" y="1504800"/>
            <a:ext cx="971712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REVENTIVN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539720" y="1814400"/>
            <a:ext cx="1219320" cy="1003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: Rounded Corners 8"/>
          <p:cNvSpPr/>
          <p:nvPr/>
        </p:nvSpPr>
        <p:spPr>
          <a:xfrm>
            <a:off x="9596520" y="138240"/>
            <a:ext cx="23065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12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17600" y="474840"/>
            <a:ext cx="1153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4300" spc="-1" strike="noStrike">
                <a:solidFill>
                  <a:srgbClr val="ffffff"/>
                </a:solidFill>
                <a:latin typeface="Trebuchet MS"/>
              </a:rPr>
              <a:t>FIKSNI ORTODONTSKI APARAT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544680" y="2133720"/>
            <a:ext cx="629424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Zbog otežanog održavanja oralne higijene čak do </a:t>
            </a:r>
            <a:r>
              <a:rPr b="1" lang="sr-Latn-CS" sz="2800" spc="-1" strike="noStrike">
                <a:solidFill>
                  <a:srgbClr val="f45e44"/>
                </a:solidFill>
                <a:latin typeface="Trebuchet MS"/>
              </a:rPr>
              <a:t>96%</a:t>
            </a: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 pacijenata razvije demineralizacijske lezije gleđ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17600" y="474840"/>
            <a:ext cx="1153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4300" spc="-1" strike="noStrike">
                <a:solidFill>
                  <a:srgbClr val="ffffff"/>
                </a:solidFill>
                <a:latin typeface="Trebuchet MS"/>
              </a:rPr>
              <a:t>ORTO MINI-IMPLANT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639720" y="1657440"/>
            <a:ext cx="669456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rvih deset dana nakon ugradnje potrebno je u oralnu higijenu uključiti ispiranje oralnim antiseptikom (na bazi hlorheksidina) kroz 30 sekundi i dvaput dnevn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417600" y="474840"/>
            <a:ext cx="1153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4300" spc="-1" strike="noStrike">
                <a:solidFill>
                  <a:srgbClr val="ffffff"/>
                </a:solidFill>
                <a:latin typeface="Trebuchet MS"/>
              </a:rPr>
              <a:t>ORTOGRANTSKI HIRURŠKI ZAHVAT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639720" y="1936800"/>
            <a:ext cx="475128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Šavove treba oprezno očistiti sterilnom gazom natopljenom fiziološkim rastvoro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Treba izbegavati hranu koja može iritirati sluznicu (kisela, ljuta, tvrda...), alkohol i cigaret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417600" y="474840"/>
            <a:ext cx="1153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4300" spc="-1" strike="noStrike">
                <a:solidFill>
                  <a:srgbClr val="ffffff"/>
                </a:solidFill>
                <a:latin typeface="Trebuchet MS"/>
              </a:rPr>
              <a:t>HIRURŠKI TRETMAN I ORALNA HIGIJEN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639720" y="1932120"/>
            <a:ext cx="584532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Ako nije adekvatan higijenski status, pacijenta je potrebno usmeriti i motivisati pravilnoj oralnoj higijen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Ukoliko je pacijent budući kandidat za implantološku terapiju, treba ga edukovati o pravilima održavanja budućeg periimplantatnog tkiva i dokazati mu koliko uspeh terapije zavisi od dobre oralne higijen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417600" y="474840"/>
            <a:ext cx="1153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fffff"/>
                </a:solidFill>
                <a:latin typeface="Trebuchet MS"/>
              </a:rPr>
              <a:t>PACIJENTI VEZANI ZA KREVET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639720" y="2152800"/>
            <a:ext cx="619128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Budući da ovu grupu pacijenata karakteriše stacionar u domovima za starije osobe ili bolnicama, važno je edukacija osobe koja se brinu o takvim pacijentima na koji im način trebaju održavati oralnu higijenu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151272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ORALNA HIGIJEN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900000" y="1731960"/>
            <a:ext cx="856152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U okviru zdravstveno-vaspitnog rada što veći broj osoba informisati o neophodnosti i efikasnosti oralne higijene radi sprečavanja nastanka oboljenja usta i zub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Kod dece uticati na sticanje navike redovnog održavanja oralne higije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51272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USPEH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863640" y="1967040"/>
            <a:ext cx="70992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Korišćenja odgovarajućeg pribor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Tehnike izvođen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Redovnog održavan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Učestalosti pranja usta i ub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Dužine pranja usta i zub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77920" y="474840"/>
            <a:ext cx="107726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RIBOR ZA IZVOĐENJE ORALNE HIGIJEN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776160" y="1898640"/>
            <a:ext cx="102888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Osnovna sredstv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8f8f8"/>
                </a:solidFill>
                <a:latin typeface="Trebuchet MS"/>
              </a:rPr>
              <a:t>Razne četkice za zub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8f8f8"/>
                </a:solidFill>
                <a:latin typeface="Trebuchet MS"/>
              </a:rPr>
              <a:t>Konac za zub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8f8f8"/>
                </a:solidFill>
                <a:latin typeface="Trebuchet MS"/>
              </a:rPr>
              <a:t>Čačkalice za zube i interdentalni stimulator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omoćna sredstv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8f8f8"/>
                </a:solidFill>
                <a:latin typeface="Trebuchet MS"/>
              </a:rPr>
              <a:t>Paste za zub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8f8f8"/>
                </a:solidFill>
                <a:latin typeface="Trebuchet MS"/>
              </a:rPr>
              <a:t>Sredstva za identifikaciju i kontrolu plak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8f8f8"/>
                </a:solidFill>
                <a:latin typeface="Trebuchet MS"/>
              </a:rPr>
              <a:t>Vodice za ispiranje ust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6635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ČETKICE ZA ZUB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639720" y="1457280"/>
            <a:ext cx="68436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Dobra četkica treba da ispunjava sledeće uslov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500"/>
              </a:spcBef>
              <a:buClr>
                <a:srgbClr val="f8f8f8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8f8f8"/>
                </a:solidFill>
                <a:latin typeface="Trebuchet MS"/>
              </a:rPr>
              <a:t>Da efikasno čisti površine zuba us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500"/>
              </a:spcBef>
              <a:buClr>
                <a:srgbClr val="f8f8f8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8f8f8"/>
                </a:solidFill>
                <a:latin typeface="Trebuchet MS"/>
              </a:rPr>
              <a:t>Da bude pogodna za rukovan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500"/>
              </a:spcBef>
              <a:buClr>
                <a:srgbClr val="f8f8f8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8f8f8"/>
                </a:solidFill>
                <a:latin typeface="Trebuchet MS"/>
              </a:rPr>
              <a:t>Da oblikom, veličinom i tvrdoćom bude prilagođena individualnim osobinama korisnik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500"/>
              </a:spcBef>
              <a:buClr>
                <a:srgbClr val="f8f8f8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8f8f8"/>
                </a:solidFill>
                <a:latin typeface="Trebuchet MS"/>
              </a:rPr>
              <a:t>Da se lako održav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500"/>
              </a:spcBef>
              <a:buClr>
                <a:srgbClr val="f8f8f8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8f8f8"/>
                </a:solidFill>
                <a:latin typeface="Trebuchet MS"/>
              </a:rPr>
              <a:t>Da se može nesmetano izlagati vazduh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8f8f8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6635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KARAKTERISTIKE ČETKIC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639720" y="1343160"/>
            <a:ext cx="68436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Građa četk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8f8f8"/>
                </a:solidFill>
                <a:latin typeface="Trebuchet MS"/>
              </a:rPr>
              <a:t>Dužina vlakna oko 1c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Dimenzije četkice treba da budu usklađene sa anatomsko-fiziološkim karakteristikama korisnik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Vlakna četk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8f8f8"/>
                </a:solidFill>
                <a:latin typeface="Trebuchet MS"/>
              </a:rPr>
              <a:t>Prirodna ili sintetičk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Tvrdoć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8f8f8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8f8f8"/>
                </a:solidFill>
                <a:latin typeface="Trebuchet MS"/>
              </a:rPr>
              <a:t>Ekstra meke i meke su posebno pogodne za decu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635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ELEKTRIČNE ČETKIC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639720" y="1876320"/>
            <a:ext cx="68436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Ove četkice za zube su se pokazale pogodnim za održavanje oralne higijene kod dece, institucionaliziranih starijih osoba, kod pacijenata sa ortodontskim aparatima, kao i kod svih pacijenata koji imaju visok karijes rizik, te povećan rizik od periodontalnih oboljenja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6635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UČENJE TEHNIK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2487600" y="1514520"/>
            <a:ext cx="51894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Demonstracija tehnike</a:t>
            </a:r>
            <a:br>
              <a:rPr sz="2800"/>
            </a:b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ranja zub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onavljanje onoga</a:t>
            </a:r>
            <a:br>
              <a:rPr sz="2800"/>
            </a:b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što je pokazan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Vežbanje</a:t>
            </a:r>
            <a:br>
              <a:rPr sz="2800"/>
            </a:b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kod kuć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rovera stečenog</a:t>
            </a:r>
            <a:br>
              <a:rPr sz="2800"/>
            </a:b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znan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216080" y="1428840"/>
            <a:ext cx="1090440" cy="108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1254240" y="2705040"/>
            <a:ext cx="1087200" cy="1087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1235160" y="4000680"/>
            <a:ext cx="1087200" cy="1087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"/>
          <p:cNvPicPr/>
          <p:nvPr/>
        </p:nvPicPr>
        <p:blipFill>
          <a:blip r:embed="rId4"/>
          <a:stretch/>
        </p:blipFill>
        <p:spPr>
          <a:xfrm>
            <a:off x="1254240" y="5257800"/>
            <a:ext cx="1087200" cy="10875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17600" y="474840"/>
            <a:ext cx="1153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4300" spc="-1" strike="noStrike">
                <a:solidFill>
                  <a:srgbClr val="ffffff"/>
                </a:solidFill>
                <a:latin typeface="Trebuchet MS"/>
              </a:rPr>
              <a:t>MOBILNE PROTEZ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39720" y="1924200"/>
            <a:ext cx="615492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Nakon svakog nošenja protezu oprati pod tekućom vodom, iščetkati četkicom bez upotrebe paste za zube i posušiti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Kada se proteza ne nosi, treba je držati u suvoj prozračnoj kutiji kako ne bi došlo do korozije žičanih elemenata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7T19:25:45Z</dcterms:modified>
  <cp:revision>516</cp:revision>
  <dc:subject/>
  <dc:title>RTG U DEČJOJ STOMATOLOGIJI</dc:title>
</cp:coreProperties>
</file>